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3C2-6279-4958-A75C-8A07A74A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0F7-E7E9-4A40-B632-058172B7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C23-4C63-467F-BBEE-F6010697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FCE-A648-45B9-B103-3D3B5D07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1D7-3648-4456-A1D9-B823728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0EB-614A-4D2D-858A-560CD639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5D5-AB51-4C55-9F03-EB6E3D8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F71-EFE4-44B8-887E-BA308BBA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AE3-4984-4DB0-ADC2-E09B3DA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A80-E13A-44E4-9788-94576B1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6D8-B837-4598-B7EE-8AC3713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C7F-6DE8-47FD-96FC-A7E094C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25D6-70DD-4633-8D6E-181A69A8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52280"/>
            <a:ext cx="6353280" cy="30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unga"/>
              </a:rPr>
              <a:t>СИ КАМАН ДЕВЛ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unga"/>
              <a:ea typeface="Tung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048120"/>
            <a:ext cx="838368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ff00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6600cc">
                        <a:alpha val="80392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И МЕ ГОСПОДИ</a:t>
            </a:r>
            <a:endParaRPr b="0" lang="en-US" sz="5400" spc="1" strike="noStrike">
              <a:ln w="9360">
                <a:solidFill>
                  <a:srgbClr val="00ff00"/>
                </a:solidFill>
                <a:prstDash val="lgDash"/>
                <a:miter/>
              </a:ln>
              <a:gradFill rotWithShape="0">
                <a:gsLst>
                  <a:gs pos="0">
                    <a:srgbClr val="6600cc">
                      <a:alpha val="80392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080" y="1440"/>
            <a:ext cx="5022360" cy="54558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50000">
                <a:srgbClr val="bbe0e3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СИ 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ТИРО ДРОМ ТЕ ПИ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СИ 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Е САР ТЕ СЛУЖИ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СИ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ТИ ВОЛЯ ТЕ КЕ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СИ КАМАН ДЕВ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МЕ САР ТЕ ЖИВИ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295280"/>
            <a:ext cx="3962520" cy="3751560"/>
          </a:xfrm>
          <a:prstGeom prst="rect">
            <a:avLst/>
          </a:prstGeom>
          <a:gradFill rotWithShape="0">
            <a:gsLst>
              <a:gs pos="0">
                <a:srgbClr val="1e11c3">
                  <a:alpha val="20000"/>
                </a:srgbClr>
              </a:gs>
              <a:gs pos="100000">
                <a:srgbClr val="80808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УЧИ М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ГОСПО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КАК ДА Х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ПО ПЪТЯ Т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УЧИ М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ИСУ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КАК ДА ТИ СЛУ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КАК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ВЪРША ВОЛЯТА 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 КАК ДА ЖИВЕ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00" y="60480"/>
            <a:ext cx="5025240" cy="64306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50000">
                <a:srgbClr val="000000">
                  <a:alpha val="20000"/>
                </a:srgbClr>
              </a:gs>
              <a:gs pos="100000">
                <a:srgbClr val="80808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/ ТУКЕ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Е ТЕ СЛУЖИ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УКЕ ДЕВ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ОВИЛО ТЕ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УКЕ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ВСИЧКО МЕ ТЕ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БИТИ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НАЩИ ТЕ ЖИВИНАВ.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0280" y="1143000"/>
            <a:ext cx="3309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 ТЕБ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ГОСПОД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ДА СЛУ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 ТЕБ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ИСУ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ДА 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РЦЕТО 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ВСИ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ДА ДАМ НА Т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ЗД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БЕЗ ТЕБ НЕМ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ДА ЖИВ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2000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80" y="0"/>
            <a:ext cx="5022360" cy="5943240"/>
          </a:xfrm>
          <a:prstGeom prst="rect">
            <a:avLst/>
          </a:prstGeom>
          <a:gradFill rotWithShape="0">
            <a:gsLst>
              <a:gs pos="0">
                <a:srgbClr val="00ff00">
                  <a:alpha val="20000"/>
                </a:srgbClr>
              </a:gs>
              <a:gs pos="50000">
                <a:srgbClr val="000000">
                  <a:alpha val="20000"/>
                </a:srgbClr>
              </a:gs>
              <a:gs pos="100000">
                <a:srgbClr val="00ff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СИ 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ТИРО ДРОМ ТЕ ПИРАВ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СИ 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МЕ САР ТЕ СЛУЖИНАВ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СИКАМАН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ТИ ВОЛЯ ТЕ КЕРАВ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СИ КАМАН ДЕВ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ff00"/>
                </a:solidFill>
                <a:latin typeface="Arial"/>
              </a:rPr>
              <a:t>МЕ САР ТЕ ЖИВИНАВ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6120" y="0"/>
            <a:ext cx="4262040" cy="478656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50000">
                <a:srgbClr val="808080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НАУЧИ М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 ГОСПОДИ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КАК ДА ХО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ПО ПЪТЯ 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НАУЧИ М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 ИСУ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КАК ДА ТИ СЛУЖ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КАК 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ВЪРША ВОЛЯТА 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Arial"/>
              </a:rPr>
              <a:t>И КАК ДА ЖИВ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160" y="0"/>
            <a:ext cx="4912920" cy="69181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50000">
                <a:srgbClr val="751700">
                  <a:alpha val="20000"/>
                </a:srgbClr>
              </a:gs>
              <a:gs pos="100000">
                <a:srgbClr val="ff33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/ ТУКЕ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Е ТЕ СЛУЖИ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УКЕ ДЕВ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ОВИЛО ТЕ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ТУКЕ ДЕВ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МАН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ВСИЧКО МЕ ТЕ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БИТИ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3300"/>
                </a:solidFill>
                <a:latin typeface="Arial"/>
              </a:rPr>
              <a:t>НАЩИ ТЕ ЖИВИНАВ.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720" y="838080"/>
            <a:ext cx="3224160" cy="5580360"/>
          </a:xfrm>
          <a:prstGeom prst="rect">
            <a:avLst/>
          </a:prstGeom>
          <a:gradFill rotWithShape="0">
            <a:gsLst>
              <a:gs pos="0">
                <a:srgbClr val="1e11c3">
                  <a:alpha val="20000"/>
                </a:srgbClr>
              </a:gs>
              <a:gs pos="100000">
                <a:srgbClr val="80808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 ТЕБ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ГОСП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ДА СЛУ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НА ТЕБ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 ИСУ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ДА 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РЦЕТО 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ИСКАМ ВСИ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ДА ДАМ НА Т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ЗД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БЕЗ ТЕБ НЕМ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ДА ЖИВ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2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6:44:00Z</dcterms:created>
  <dc:creator>TrifonTrifonow</dc:creator>
  <dc:description/>
  <dc:language>en-US</dc:language>
  <cp:lastModifiedBy>TrifonTrifonow</cp:lastModifiedBy>
  <dcterms:modified xsi:type="dcterms:W3CDTF">2006-01-11T16:48:25Z</dcterms:modified>
  <cp:revision>1</cp:revision>
  <dc:subject/>
  <dc:title>Slide 1</dc:title>
</cp:coreProperties>
</file>